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3511440" y="1892160"/>
            <a:ext cx="2120760" cy="3422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 txBox="1"/>
          <p:nvPr/>
        </p:nvSpPr>
        <p:spPr>
          <a:xfrm>
            <a:off x="685800" y="3808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tform for Internet Conten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743200" y="54100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3.org/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47920" y="15228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Keep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990720"/>
            <a:ext cx="7772400" cy="448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3.org/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 Conference tomorrow at 13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’s Day panel Friday at 13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m Miller (JMiller@w3.o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ul Resnick (PResnick@research.att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 and Public Affairs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Ek (Ek@prodigy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ny Weitzner (djw@cdt.o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ves Peynaud (Yves.Peynaud@inria.f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0400" y="2349360"/>
            <a:ext cx="2120760" cy="342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ols Without Cens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verse Rating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739880"/>
            <a:ext cx="7662960" cy="4127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92080" y="4946760"/>
            <a:ext cx="370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day’s 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38240" y="1941480"/>
            <a:ext cx="287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gle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782960" y="194148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ltiple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7920" y="4946760"/>
            <a:ext cx="3368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ture 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d on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178840" y="54000"/>
            <a:ext cx="7524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tting Johnny’s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90480" y="1600200"/>
            <a:ext cx="8020080" cy="5245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178840" y="54000"/>
            <a:ext cx="7524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RSA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4240" y="1622520"/>
            <a:ext cx="8020080" cy="5222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178840" y="54000"/>
            <a:ext cx="7524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39800" y="1576440"/>
            <a:ext cx="8020080" cy="5268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178840" y="54000"/>
            <a:ext cx="7524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6120" y="1727280"/>
            <a:ext cx="8153280" cy="478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65200" y="2968560"/>
            <a:ext cx="1978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Parent  sel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rating 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65200" y="5856120"/>
            <a:ext cx="1636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Child 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3240" y="2513160"/>
            <a:ext cx="2062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Service A  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713120" y="3002040"/>
            <a:ext cx="2062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Service B  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61240" y="180036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18080" y="5334120"/>
            <a:ext cx="3021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Label reading 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907400" y="3395520"/>
            <a:ext cx="1440" cy="2541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04040" y="3632040"/>
            <a:ext cx="2343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Publisher’s   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ements of th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178840" y="54000"/>
            <a:ext cx="7524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79400" y="7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Diverse Market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5280" y="960480"/>
            <a:ext cx="7772400" cy="48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els may be creat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s and publis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independent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els may be distribut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documents themsel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a compact dis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a online service or web ser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ing may occur 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me comp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xy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nline service prov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formation prov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178840" y="54000"/>
            <a:ext cx="7524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00200" y="22860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5280"/>
            <a:ext cx="7772400" cy="41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, national, and international governments shoul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industry efforts to educate parents and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development of multi-country ra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development of independent r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ower parents and third parties, rather than censor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y should deploy public label bure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rating cont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organizations with specific values or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78840" y="54000"/>
            <a:ext cx="7524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 S. Miller</dc:creator>
  <dc:description/>
  <dc:language>en-US</dc:language>
  <cp:lastModifiedBy>James S. Miller</cp:lastModifiedBy>
  <cp:revision>0</cp:revision>
  <dc:subject/>
  <dc:title>Platform for Internet Content Selection</dc:title>
</cp:coreProperties>
</file>