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228600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: Work 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onic Commer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JEPI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e Digital Signature Initi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</a:t>
            </a:r>
            <a:r>
              <a:rPr b="0" lang="en-US" sz="4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 Reference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PEP engine plan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 as a proxy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gital signatures using PEP and list of assertions to say what must/should be sig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P plug-in module for PEP engine as part of JEPI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 Bit of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’s first project was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lit Electronic Commerce from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Working Group contin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Editorial Review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her ElGamal, Jeff Hostetler, Butler Lampson, Ron Rivest, Jeff Schiller, Alan Schiffman, Win Tree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jor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 with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e “at Internet spe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ote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ent frag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specifications, working demonstrations, prototype code as appropr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EPI Project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gotiation over Pay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ring or after sho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fore actual pa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sues incl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yment instrument (credit card, electronic check, debit card, electronic cash, micropay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ounts for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currency pri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EPI Project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 Team (demo Sept. 9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browser: Micros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server: IBM, Open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yment system: CyberCash, GCT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rchant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ill o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T/Verifone, Digital Equipment, VendA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er Team (meets Monday May 13, CN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to W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or CommerceNet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EPI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tlake’s “Universal Payment Preamb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oded for HTTP with P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PEP for nego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(credit card) protocol, plus proprietary CyberCash and GCTech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ntrating on demonstration and interoperabilit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dular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P-based scheme to modularize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e main ar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ry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entication (Key Exchan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ipes” describe how the components can and can’t be comb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curity Market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work stalled for lack of direct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l task force studied market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acy (transport level secur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ed documents including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acy work is ready for standardization, and is proceeding in IETF, not W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ature work is beginning in W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gital Signature Initi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est, transmit and verify sign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 work by Apple, Digital, GTE, IBM, Microsoft, Netscape, Sun, Veri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 on PKCS7, X509.v3, PICS, and P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separable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ity of sig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ed asser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mes S. Miller</dc:creator>
  <dc:description/>
  <dc:language>en-US</dc:language>
  <cp:lastModifiedBy>James S. Miller</cp:lastModifiedBy>
  <cp:revision>0</cp:revision>
  <dc:subject/>
  <dc:title>W3C: Work on Electronic Commerce  and Security</dc:title>
</cp:coreProperties>
</file>